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4BCEA-79DC-4B64-868B-9ECE37D29A9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31A67-9457-4BC0-B664-E386B65118D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B4AE-41CB-4134-B0BA-469E429DA40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BE043-6104-46CC-9FDD-D8D5D2A166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98100-D82D-4262-8891-4333102D663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58DF9-B621-433E-85DC-7C14C461842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11A9D-3296-4044-803C-2C846F511C3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02ED8-769E-4AD5-9D34-8DAB2B171F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DAA68-997E-43EA-84DC-3BD6BBE5726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D9382-0E66-4A72-AB96-9C4A77D17FD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DA40A-DDE0-4263-A3CA-B21EC0D10B7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6FC0D-67A5-47A9-B3A3-EA40D30BCFC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06280-426D-47A5-9651-BF2DFE53A6A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64DD5-3DFC-41FC-8870-4AFC0D7DA7B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B425-0E36-48E4-9C64-440F28CCA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4A5F-A64C-4374-90D5-1C8C68E93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E82F-2E1B-4E62-A1E2-4AC6165E9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5D1F-AA6F-4F50-8514-5CBDC6B4E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79BC4-EEB1-48E4-95D6-F619726BA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49D1A-590C-4AE9-B7D1-2D4E151A9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FE6BD-75DC-4C81-A903-F46B2E15D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53C31-68FA-4172-AC29-FE59C6D6F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0E0C3-A54A-42D6-AA08-DFE0F496A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329EE-1CC9-4C0B-B269-EB17B73C6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D1A4E-127A-474E-8FF0-F080A151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2D3B-7711-4AF0-ACD9-42CD4860A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A3A42-B21F-4028-BDF8-5350F124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1C22F-EC0F-4480-B2CC-C110CA5C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20855-A219-4B4A-B47C-49E328743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8A218-96F6-4EB1-8974-A7A2F8F53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D36E8-7AC9-4019-9952-8DD7DAA3C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DEF1B-6D1C-4C07-958A-4728B692D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21222-7064-4DBB-B2F9-15933C65D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9675B-96EE-4A3B-8822-17315CCC0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F84EA-8220-44F3-95D8-65B7FF2A9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C4B68-1BD0-436C-B0F5-6C38B8A5C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AA61-0735-4B12-8040-C1B306808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DAD84-122E-4710-AEA7-614705E83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D0E03-8C16-46E4-9246-40882057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AAA46-674B-4DE9-9674-253815C9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83FED-2A43-4F1C-89FC-38322993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87D60-C57B-48D7-B4D1-EFBFA913B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4B514-5D3C-481E-B7A0-02527A643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85B0C-AAC4-423E-87C7-FCC1E1149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FE4D2-92B0-43B0-8025-A741790E1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8344D-32E4-4D55-B1D6-D2D8A4122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86D5B-58A9-46FA-9A91-60E14087B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1EE3-18DE-4C96-92F1-04008B9D1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93F3B-B070-43FB-9956-2E302E53D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536C3-A01B-48B1-A770-7BB7AC479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3FC10-244A-41A3-B4DF-6537FC074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12DF2-149D-44ED-8AC1-D408ED5D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5E221-AED7-4130-AD2F-038E9090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6CFA1-5383-47D0-BA28-B8398580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6567C-B260-4496-954F-B173CA10A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6FE29-7877-457A-8DD6-580123F4B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9299A-4289-41F9-8E58-39B8B1880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8DECF-E725-4DE2-93E9-93C8D9B31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229D-6302-42B5-83BA-1E29748A3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DBD3C-EFAD-4ECF-8898-220156E88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75C1B-2BD4-4A74-9F4E-5573E7A4D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D655C-CF02-4CD8-9E17-7627D4938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8AB8E-871A-475D-A912-638183184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2E63E-7AB0-46D3-B79F-E1CAB8770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CF99D-7C7C-4DC5-860F-9B0423B2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D0B36-0A61-42BF-BCBB-B87271A0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396F4-7161-4540-8F3B-CF3BC952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D74AF-10B0-4599-A226-B9A5F6EB6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2EE9D-30CB-42F5-B043-8A0DECDDA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15C3-9460-4989-9EA3-7C0B795DB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C41E9-7DB2-4373-B680-74E9BBD6A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9ED6A-2B45-4341-B9B9-C490CB63F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D94C9-B0CF-482D-87E5-2AD04D9AC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EFA0B-567C-47C2-B704-4C8B2DBF5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2D952-EA5F-49A6-A39B-F70B00140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79A56-60BD-4DD8-B80F-45F9A7B8E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61227-C5B2-4C69-A895-C94CCB80B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5B54D-BEE7-4313-ADEE-C8EE53A9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E44E1-4B1B-4F41-A5F4-2BCDA7A8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D831D-81BD-4FEA-9E8F-20A21948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6335-2927-4A26-8D67-4C65A10A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21132-3DC7-4D07-BADB-05FE71743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A5B50-EBB6-423E-A0FB-B2365587D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B3FB2-101F-46AD-A55C-3A75F1F6D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36FEC-8963-4CAB-AE7B-ECB8B5986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B52D2-DB2E-43B8-A38D-6B573D2C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B8ACE-AACB-412A-A0A1-F032922DD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8C33DC-CC06-4961-B242-8DAD4CE2F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FE0A46-DEAC-45CB-930C-2C7575DF4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8CF10-7B96-4178-9231-C1804720B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E6FD6-CBE0-434B-80FB-EE928F0F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650E-DFC5-4A3A-BC49-A9E42C78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B86640-CD1F-4826-8F99-81B63866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0CEC85-3817-4A6F-9341-EB8C3B59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243FE-7B93-4D74-BC14-617020CBF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916560-6800-4283-A11D-DE7C0C9AB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34A98-BD08-4DA3-BFE4-3405AB2B3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D4B91C-0EE3-4040-9342-4632ED5FA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528625-B2ED-41F0-89E2-A2FB05537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EF81F5-288B-4AA3-87F6-82FAA2499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5A05B-09AF-4F2F-B7DC-44AF78D35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D1B89C-F274-4EEC-B746-6D2D4739A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817C-518A-44E0-B707-BD45FA8A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A1CB8D-44DE-4350-911B-C611C8EC6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DB824B-33E8-458C-A628-A31F6D17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C26FC8-8B23-45C5-8F8F-97F7C7FF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72EFFB-00D8-4C06-A6CD-E943DDEA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890101-5E0F-46B1-BB30-58FEF5C95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88D7CE-F3EC-49EF-BA8A-82883DD9B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96F751-8DF7-43B7-9EFE-DF51B0036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7FC81-3143-436A-85EE-B23EB96E3E2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3B316-3B26-4C8B-BA4D-FB7F0669A7E0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B96B0-79A3-47F6-B164-48D1B915ED16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67B3B-0C9A-46D8-896E-C5F7A753FF2F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95853-0C38-4999-A4DA-2854BA85247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DB469-EB9D-4B44-81A2-89FBDAD011CF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7D433-0D47-4D10-8630-5DEF15E70C5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A8A4-7725-43A9-88E3-6BC810C62603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Заголовок 1" descr=""/>
          <p:cNvPicPr/>
          <p:nvPr/>
        </p:nvPicPr>
        <p:blipFill>
          <a:blip r:embed="rId1"/>
          <a:stretch/>
        </p:blipFill>
        <p:spPr>
          <a:xfrm>
            <a:off x="682560" y="950760"/>
            <a:ext cx="7785000" cy="262764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93372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4646"/>
                </a:solidFill>
                <a:latin typeface="Lucida Sans Unicode"/>
              </a:rPr>
              <a:t>Зызыкина И.Ю., заместитель директора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4646"/>
                </a:solidFill>
                <a:latin typeface="Lucida Sans Unicode"/>
              </a:rPr>
              <a:t>МБОУ Афонинская СШ</a:t>
            </a:r>
            <a:br>
              <a:rPr sz="1800"/>
            </a:br>
            <a:r>
              <a:rPr b="0" lang="ru-RU" sz="1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357200"/>
            <a:ext cx="822960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2060"/>
                </a:solidFill>
                <a:latin typeface="Lucida Sans Unicode"/>
              </a:rPr>
              <a:t>Повышение профессиональной компетентности в области мотивации учебной деятельности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Участие в работе МРЦ «Организация психолого-педагогического сопровождения участников образовательного процесса» (МБОУ СШ № 6 г. Кстово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Участие в работе Центра профориентации «Твой жизненный выбор» (МБУ ДО ЦВР г. Кстово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Участие в семинаре «Диагностика профессиональных дефицитов педагогов. Анализ соответствия результатов диагностик профессиональной компетентности учителей выявленным дефицитам обучающихся» (МБОУ Лицей №7 г. Кстово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Заголовок 2" descr=""/>
          <p:cNvPicPr/>
          <p:nvPr/>
        </p:nvPicPr>
        <p:blipFill>
          <a:blip r:embed="rId1"/>
          <a:stretch/>
        </p:blipFill>
        <p:spPr>
          <a:xfrm>
            <a:off x="450720" y="92160"/>
            <a:ext cx="824256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714320"/>
            <a:ext cx="8229600" cy="42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2060"/>
                </a:solidFill>
                <a:latin typeface="Lucida Sans Unicode"/>
              </a:rPr>
              <a:t>Повышение профессиональной компетентности в обеспечении достижения запланированных результатов в процессе проведения учебного занятия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ая познавательная деятельность педагогов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индивидуальных образовательных маршрутов педагогов по формированию профессиональных компетенций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мен опытом по организации продуктивной и результативной деятельности обучающихся на учебном занятии 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ервизии – взаимопосещение уроков с последующим анализо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наставничества молодых специалистов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Заголовок 2" descr=""/>
          <p:cNvPicPr/>
          <p:nvPr/>
        </p:nvPicPr>
        <p:blipFill>
          <a:blip r:embed="rId1"/>
          <a:stretch/>
        </p:blipFill>
        <p:spPr>
          <a:xfrm>
            <a:off x="426960" y="244440"/>
            <a:ext cx="828360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2" descr=""/>
          <p:cNvPicPr/>
          <p:nvPr/>
        </p:nvPicPr>
        <p:blipFill>
          <a:blip r:embed="rId1"/>
          <a:stretch/>
        </p:blipFill>
        <p:spPr>
          <a:xfrm>
            <a:off x="920880" y="146160"/>
            <a:ext cx="7802280" cy="146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6" name=""/>
          <p:cNvGraphicFramePr/>
          <p:nvPr/>
        </p:nvGraphicFramePr>
        <p:xfrm>
          <a:off x="428760" y="1785960"/>
          <a:ext cx="8501040" cy="4541760"/>
        </p:xfrm>
        <a:graphic>
          <a:graphicData uri="http://schemas.openxmlformats.org/drawingml/2006/table">
            <a:tbl>
              <a:tblPr/>
              <a:tblGrid>
                <a:gridCol w="515880"/>
                <a:gridCol w="2535120"/>
                <a:gridCol w="1525680"/>
                <a:gridCol w="1307880"/>
                <a:gridCol w="2616480"/>
              </a:tblGrid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ропри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ветственный исполнитель, ресур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ок испол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жидаемые результаты исполнения меропри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Г. Развитие компетентностей в области дифференциации и индивидуального развития обучающихся для достижения образовательных результа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ститель директ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 П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тябрь –май 2019-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ормировано умение создавать дидактический инструментарий, используемый для  дифференциации обу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Г. Развитие компетентностей в области мотивации учебной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ститель директ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 П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тябрь –май 2019-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ормировано умение создавать ситуации, обеспечивающие осознанное отношение к изучаемому предмету на основе  профессионального выбора обучающихс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Г. Развитие компетентностей в осуществлении контроля и оценки учебных достижений, текущих и итоговых образовательных результат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ститель директ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 П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тябрь –май 2019-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ормировано умение осуществлять объективную оценку знаний обучающихся на основе различных методов контроля и диагност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457200" y="1000080"/>
            <a:ext cx="822960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1. </a:t>
            </a:r>
            <a:r>
              <a:rPr b="1" lang="ru-RU" sz="2100" spc="-1" strike="noStrike">
                <a:solidFill>
                  <a:srgbClr val="000000"/>
                </a:solidFill>
                <a:latin typeface="Lucida Sans Unicode"/>
              </a:rPr>
              <a:t>Охват программой МР: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Внешнее формальное обучение – 40% педагогов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Внешнее неформальное обучение – 70% педагогов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Внутришкольное формальное обучение – 100% педагогов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Внутришкольное неформальное обучение – 100% педагогов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Информальное образование – 100% педагогов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Lucida Sans Unicode"/>
              </a:rPr>
              <a:t>2. Положительная динамика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Lucida Sans Unicode"/>
              </a:rPr>
              <a:t>профессиональной компетентности педагогов по выявленным дефицитам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– до </a:t>
            </a:r>
            <a:r>
              <a:rPr b="1" lang="ru-RU" sz="2100" spc="-1" strike="noStrike">
                <a:solidFill>
                  <a:srgbClr val="000000"/>
                </a:solidFill>
                <a:latin typeface="Lucida Sans Unicode"/>
              </a:rPr>
              <a:t>4 баллов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 (по шкале диагностической методики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Lucida Sans Unicode"/>
              </a:rPr>
              <a:t>3. Эффект от реализации программы МР– 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положительная динамика образовательных результатов обучающихся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по итогам ВПР;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по итогам ГИА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8" name="Заголовок 2" descr=""/>
          <p:cNvPicPr/>
          <p:nvPr/>
        </p:nvPicPr>
        <p:blipFill>
          <a:blip r:embed="rId1"/>
          <a:stretch/>
        </p:blipFill>
        <p:spPr>
          <a:xfrm>
            <a:off x="311040" y="195120"/>
            <a:ext cx="8515440" cy="7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500040" y="2142720"/>
            <a:ext cx="82296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 Unicode"/>
              </a:rPr>
              <a:t>Самооценка и экспертная оценка сформированности компетентности педагогов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Lucida Sans Unicode"/>
              </a:rPr>
              <a:t>Диагностическая методика лаборатории информационно-методического обеспечения выравнивания образовательных результатов ГБОУ ДПО НИРО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Заголовок 2" descr=""/>
          <p:cNvPicPr/>
          <p:nvPr/>
        </p:nvPicPr>
        <p:blipFill>
          <a:blip r:embed="rId1"/>
          <a:stretch/>
        </p:blipFill>
        <p:spPr>
          <a:xfrm>
            <a:off x="450720" y="158760"/>
            <a:ext cx="8242560" cy="547560"/>
          </a:xfrm>
          <a:prstGeom prst="rect">
            <a:avLst/>
          </a:prstGeom>
          <a:ln w="0">
            <a:noFill/>
          </a:ln>
        </p:spPr>
      </p:pic>
      <p:pic>
        <p:nvPicPr>
          <p:cNvPr id="382" name="Содержимое 3" descr=""/>
          <p:cNvPicPr/>
          <p:nvPr/>
        </p:nvPicPr>
        <p:blipFill>
          <a:blip r:embed="rId2"/>
          <a:stretch/>
        </p:blipFill>
        <p:spPr>
          <a:xfrm>
            <a:off x="-6480" y="0"/>
            <a:ext cx="9156960" cy="61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179280" y="476280"/>
            <a:ext cx="896472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Sans Unicode"/>
              </a:rPr>
              <a:t>Перечень дефицитов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1.1. Умение формировать цели и результаты программ учебных дисциплин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1.2. </a:t>
            </a:r>
            <a:r>
              <a:rPr b="0" lang="en-US" sz="1400" spc="-1" strike="noStrike">
                <a:solidFill>
                  <a:srgbClr val="232323"/>
                </a:solidFill>
                <a:latin typeface="Lucida Sans Unicode"/>
              </a:rPr>
              <a:t>Умение разработать собственные методические и дидактические материалы, обеспечивающие достижение планируемых результатов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1.3. Умение планировать педагогическую деятельность при реализации программ с учетом особенностей обучающихся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2.1. Умение учитывать образовательные предметные дефициты обучающихся при отборе содержания учебного материалы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2.2. </a:t>
            </a:r>
            <a:r>
              <a:rPr b="1" lang="en-US" sz="1400" spc="-1" strike="noStrike">
                <a:solidFill>
                  <a:srgbClr val="990000"/>
                </a:solidFill>
                <a:latin typeface="Lucida Sans Unicode"/>
              </a:rPr>
              <a:t>Умение создавать дидактический инструментарий, используемый для дифференциации обучения (40%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3.2. </a:t>
            </a:r>
            <a:r>
              <a:rPr b="1" lang="en-US" sz="1400" spc="-1" strike="noStrike">
                <a:solidFill>
                  <a:srgbClr val="990000"/>
                </a:solidFill>
                <a:latin typeface="Lucida Sans Unicode"/>
              </a:rPr>
              <a:t>Умение создавать ситуации, обеспечивающие осознанное отношение к изучаемому предмету на основе профессионального выбора  (50%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3.3. </a:t>
            </a:r>
            <a:r>
              <a:rPr b="0" lang="en-US" sz="1400" spc="-1" strike="noStrike">
                <a:solidFill>
                  <a:srgbClr val="232323"/>
                </a:solidFill>
                <a:latin typeface="Lucida Sans Unicode"/>
              </a:rPr>
              <a:t>Умение привлекать потенциал родителей к обеспечению необходимого уровня позитивной мотивации к учебной деятельности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4.3. Умение организовывать продуктивную и результативную деятельность обучающихся на учебном занятии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5.1. Умение использовать системные формы и методы контроля учебных достижений, текущих и итоговых образовательных результатов обучающихся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5.2. </a:t>
            </a:r>
            <a:r>
              <a:rPr b="1" lang="en-US" sz="1400" spc="-1" strike="noStrike">
                <a:solidFill>
                  <a:srgbClr val="990000"/>
                </a:solidFill>
                <a:latin typeface="Lucida Sans Unicode"/>
              </a:rPr>
              <a:t>Умение осуществлять объективную оценку знаний обучающихся на основе различных методов контроля и диагностики(40%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5.3. Умение осуществлять анализ образовательных результатов и корректировать образовательную деятельность в соответствии с его итогами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Заголовок 1" descr=""/>
          <p:cNvPicPr/>
          <p:nvPr/>
        </p:nvPicPr>
        <p:blipFill>
          <a:blip r:embed="rId1"/>
          <a:stretch/>
        </p:blipFill>
        <p:spPr>
          <a:xfrm>
            <a:off x="463680" y="-85680"/>
            <a:ext cx="8242200" cy="59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2"/>
          <p:cNvSpPr/>
          <p:nvPr/>
        </p:nvSpPr>
        <p:spPr>
          <a:xfrm>
            <a:off x="0" y="0"/>
            <a:ext cx="89787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Lucida Sans Unicode"/>
              </a:rPr>
              <a:t>Категории педагог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рямая соединительная линия 8"/>
          <p:cNvSpPr/>
          <p:nvPr/>
        </p:nvSpPr>
        <p:spPr>
          <a:xfrm>
            <a:off x="1214280" y="5500800"/>
            <a:ext cx="67154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Прямая соединительная линия 11"/>
          <p:cNvSpPr/>
          <p:nvPr/>
        </p:nvSpPr>
        <p:spPr>
          <a:xfrm flipV="1">
            <a:off x="1143000" y="642960"/>
            <a:ext cx="1440" cy="485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оугольник 18"/>
          <p:cNvSpPr/>
          <p:nvPr/>
        </p:nvSpPr>
        <p:spPr>
          <a:xfrm>
            <a:off x="3059280" y="5572080"/>
            <a:ext cx="4370400" cy="357120"/>
          </a:xfrm>
          <a:prstGeom prst="rect">
            <a:avLst/>
          </a:prstGeom>
          <a:solidFill>
            <a:srgbClr val="ffffff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Психологическая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готов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9" name="Прямая со стрелкой 20"/>
          <p:cNvCxnSpPr/>
          <p:nvPr/>
        </p:nvCxnSpPr>
        <p:spPr>
          <a:xfrm>
            <a:off x="6643800" y="5857920"/>
            <a:ext cx="7149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0" name="Прямая со стрелкой 22"/>
          <p:cNvCxnSpPr/>
          <p:nvPr/>
        </p:nvCxnSpPr>
        <p:spPr>
          <a:xfrm flipH="1" flipV="1">
            <a:off x="1928520" y="5785560"/>
            <a:ext cx="7149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91" name="Прямоугольник 26"/>
          <p:cNvSpPr/>
          <p:nvPr/>
        </p:nvSpPr>
        <p:spPr>
          <a:xfrm>
            <a:off x="7715160" y="5715000"/>
            <a:ext cx="1000080" cy="500040"/>
          </a:xfrm>
          <a:prstGeom prst="rect">
            <a:avLst/>
          </a:prstGeom>
          <a:solidFill>
            <a:srgbClr val="ffffff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Высокий  уров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27"/>
          <p:cNvSpPr/>
          <p:nvPr/>
        </p:nvSpPr>
        <p:spPr>
          <a:xfrm>
            <a:off x="500040" y="5643720"/>
            <a:ext cx="1000080" cy="500040"/>
          </a:xfrm>
          <a:prstGeom prst="rect">
            <a:avLst/>
          </a:prstGeom>
          <a:solidFill>
            <a:srgbClr val="ffffff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Низкий  уров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оугольник 28"/>
          <p:cNvSpPr/>
          <p:nvPr/>
        </p:nvSpPr>
        <p:spPr>
          <a:xfrm rot="16200000">
            <a:off x="-928440" y="2928600"/>
            <a:ext cx="3643200" cy="357480"/>
          </a:xfrm>
          <a:prstGeom prst="rect">
            <a:avLst/>
          </a:prstGeom>
          <a:solidFill>
            <a:srgbClr val="ffffff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Профессиональная готов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4" name="Прямая со стрелкой 29"/>
          <p:cNvCxnSpPr/>
          <p:nvPr/>
        </p:nvCxnSpPr>
        <p:spPr>
          <a:xfrm flipV="1">
            <a:off x="927720" y="999360"/>
            <a:ext cx="1080" cy="42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5" name="Прямая со стрелкой 30"/>
          <p:cNvCxnSpPr/>
          <p:nvPr/>
        </p:nvCxnSpPr>
        <p:spPr>
          <a:xfrm flipH="1">
            <a:off x="928440" y="5072040"/>
            <a:ext cx="216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96" name="Прямоугольник 31"/>
          <p:cNvSpPr/>
          <p:nvPr/>
        </p:nvSpPr>
        <p:spPr>
          <a:xfrm>
            <a:off x="142920" y="357120"/>
            <a:ext cx="1071360" cy="500040"/>
          </a:xfrm>
          <a:prstGeom prst="rect">
            <a:avLst/>
          </a:prstGeom>
          <a:solidFill>
            <a:srgbClr val="ffffff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Высокий  уров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ая соединительная линия 50"/>
          <p:cNvSpPr/>
          <p:nvPr/>
        </p:nvSpPr>
        <p:spPr>
          <a:xfrm flipH="1">
            <a:off x="4642920" y="714240"/>
            <a:ext cx="1800" cy="478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ая соединительная линия 52"/>
          <p:cNvSpPr/>
          <p:nvPr/>
        </p:nvSpPr>
        <p:spPr>
          <a:xfrm>
            <a:off x="1143000" y="2928960"/>
            <a:ext cx="6357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Прямоугольник 62"/>
          <p:cNvSpPr/>
          <p:nvPr/>
        </p:nvSpPr>
        <p:spPr>
          <a:xfrm>
            <a:off x="4716360" y="692280"/>
            <a:ext cx="3959280" cy="2166840"/>
          </a:xfrm>
          <a:prstGeom prst="rect">
            <a:avLst/>
          </a:prstGeom>
          <a:solidFill>
            <a:srgbClr val="ffffff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Comic Sans MS"/>
              </a:rPr>
              <a:t>Успешные: могут и хотя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-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Мотивированы, изменения представляют личностную цен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-Успешны в  освоении образовательных технологий на основе личных убеждений, глубокого осмысления теоретических основ, опыта реальных ситу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(40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оугольник 63"/>
          <p:cNvSpPr/>
          <p:nvPr/>
        </p:nvSpPr>
        <p:spPr>
          <a:xfrm>
            <a:off x="1285920" y="642960"/>
            <a:ext cx="3286080" cy="2214720"/>
          </a:xfrm>
          <a:prstGeom prst="rect">
            <a:avLst/>
          </a:prstGeom>
          <a:solidFill>
            <a:srgbClr val="ffffff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Пассивные: могут, но не хотя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Могут применять новые технологии в своей деятельности, но это зависит от формы стимулир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Изменения воспринимают как необходим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(20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оугольник 64"/>
          <p:cNvSpPr/>
          <p:nvPr/>
        </p:nvSpPr>
        <p:spPr>
          <a:xfrm>
            <a:off x="4714920" y="3000240"/>
            <a:ext cx="3929040" cy="2428920"/>
          </a:xfrm>
          <a:prstGeom prst="rect">
            <a:avLst/>
          </a:prstGeom>
          <a:solidFill>
            <a:srgbClr val="ffffff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9900"/>
                </a:solidFill>
                <a:uFillTx/>
                <a:latin typeface="Comic Sans MS"/>
              </a:rPr>
              <a:t>Активные: хотят, но не могу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Comic Sans MS"/>
              </a:rPr>
              <a:t>-Позитивно относятся к изменениям, изменения представляют личностную цен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Comic Sans MS"/>
              </a:rPr>
              <a:t>-Дублируют новые подходы в своей деятельности без теоретического их осмысления, не умеют их творчески перерабатыв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(20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оугольник 65"/>
          <p:cNvSpPr/>
          <p:nvPr/>
        </p:nvSpPr>
        <p:spPr>
          <a:xfrm>
            <a:off x="1285920" y="3357720"/>
            <a:ext cx="3286080" cy="2000160"/>
          </a:xfrm>
          <a:prstGeom prst="rect">
            <a:avLst/>
          </a:prstGeom>
          <a:solidFill>
            <a:srgbClr val="ffffff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99"/>
                </a:solidFill>
                <a:uFillTx/>
                <a:latin typeface="Comic Sans MS"/>
              </a:rPr>
              <a:t>Инертные: не хотят и не могу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Comic Sans MS"/>
              </a:rPr>
              <a:t>-Используют старые формы и методы деятельности, имитируют процесс внедрения нов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Comic Sans MS"/>
              </a:rPr>
              <a:t>-Не мотивированы на изменения, действуют только по требованию руковод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mic Sans MS"/>
              </a:rPr>
              <a:t>(20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000080"/>
            <a:ext cx="822960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60"/>
                </a:solidFill>
                <a:latin typeface="Lucida Sans Unicode"/>
              </a:rPr>
              <a:t>повышение уровня профессиональных компетентностей  учителей для достижения стабильно положительных образовательных результатов обучающихся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Lucida Sans Unicode"/>
              </a:rPr>
              <a:t>Компетентности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в области разработки и реализации образовательных программ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Lucida Sans Unicode"/>
              </a:rPr>
              <a:t>Компетентности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в области дифференциации и индивидуализации обучения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Lucida Sans Unicode"/>
              </a:rPr>
              <a:t>Компетентности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в области мотивации учебной деятельности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Lucida Sans Unicode"/>
              </a:rPr>
              <a:t>Компетентности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в осуществлении контроля и оценки учебных достижений, текущих и итоговых образовательных результатов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Заголовок 2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7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000080"/>
            <a:ext cx="822960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Lucida Sans Unicode"/>
              </a:rPr>
              <a:t>1. По целевым установкам: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поддерживающее, обеспечивающее функционирование обучение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развивающее обучение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Lucida Sans Unicode"/>
              </a:rPr>
              <a:t>2. По формам организации: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2.1. </a:t>
            </a:r>
            <a:r>
              <a:rPr b="0" lang="ru-RU" sz="1900" spc="-1" strike="noStrike" u="sng">
                <a:solidFill>
                  <a:srgbClr val="000000"/>
                </a:solidFill>
                <a:uFillTx/>
                <a:latin typeface="Lucida Sans Unicode"/>
              </a:rPr>
              <a:t>Внешнее обучение: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по программам ГБОУ ДПО НИРО (план-график 2019-2020) – на бюджетной основе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обучение на территории учреждений-партнеров г. Кстово (МБОУ Лицей № 7, МБОУ СШ № 6, МБУ ДО ЦВР)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2.2. </a:t>
            </a:r>
            <a:r>
              <a:rPr b="0" lang="ru-RU" sz="1900" spc="-1" strike="noStrike" u="sng">
                <a:solidFill>
                  <a:srgbClr val="000000"/>
                </a:solidFill>
                <a:uFillTx/>
                <a:latin typeface="Lucida Sans Unicode"/>
              </a:rPr>
              <a:t>Внутришкольное обучение: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обучение с приглашением специалистов ГБОУ ДПО НИРО (по договору)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обучение в районе по плану ИМО департамента образования Кстовского муниципального района (занятия РМО, творческих и проблемных групп)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обучающие семинары, практикумы (педагоги и руководители ОО)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Заголовок 2" descr=""/>
          <p:cNvPicPr/>
          <p:nvPr/>
        </p:nvPicPr>
        <p:blipFill>
          <a:blip r:embed="rId1"/>
          <a:stretch/>
        </p:blipFill>
        <p:spPr>
          <a:xfrm>
            <a:off x="450720" y="55440"/>
            <a:ext cx="8242560" cy="10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357120" y="1571760"/>
            <a:ext cx="83296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2060"/>
                </a:solidFill>
                <a:latin typeface="Lucida Sans Unicode"/>
              </a:rPr>
              <a:t>Повышение профессиональной компетентности и в области дифференциации и индивидуализации обучения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"Дифференцированный подход в подготовке учащихся к ЕГЭ по русскому языку", 36 часов – 1 чел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"Дифференцированный подход в подготовке учащихся к ЕГЭ по обществознанию ", 36 часов – 1 чел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"Методика подготовки к ЕГЭ и ОГЭ по истории и обществознанию", 18 часов – 1 чел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"Организация подготовки выпускников 11 классов к ГИА по математике", 18 часов – 1 чел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"Проектирование учебного занятия по предметам естественнонаучного цикла в условиях реализации ФГОС", 36 часов – 1 чел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Заголовок 2" descr=""/>
          <p:cNvPicPr/>
          <p:nvPr/>
        </p:nvPicPr>
        <p:blipFill>
          <a:blip r:embed="rId1"/>
          <a:stretch/>
        </p:blipFill>
        <p:spPr>
          <a:xfrm>
            <a:off x="420840" y="201600"/>
            <a:ext cx="824220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57120" y="1571760"/>
            <a:ext cx="83296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Lucida Sans Unicode"/>
              </a:rPr>
              <a:t>Повышение профессиональной компетентности в осуществлении контроля и оценки учебных достижений, текущих и итоговых образовательных результатов обучающихс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Заявка на обучение педагогов и руководителей ОО на внебюджетной основе (ГБОУ ДПО НИРО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0" name="Заголовок 2" descr=""/>
          <p:cNvPicPr/>
          <p:nvPr/>
        </p:nvPicPr>
        <p:blipFill>
          <a:blip r:embed="rId1"/>
          <a:stretch/>
        </p:blipFill>
        <p:spPr>
          <a:xfrm>
            <a:off x="420840" y="201600"/>
            <a:ext cx="824220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13T08:03:20Z</dcterms:created>
  <dc:creator>Владелец</dc:creator>
  <dc:description/>
  <dc:language>en-US</dc:language>
  <cp:lastModifiedBy>*</cp:lastModifiedBy>
  <dcterms:modified xsi:type="dcterms:W3CDTF">2019-12-09T07:31:41Z</dcterms:modified>
  <cp:revision>98</cp:revision>
  <dc:subject/>
  <dc:title>Программа методической работы</dc:title>
</cp:coreProperties>
</file>